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DC0-DAB0-42D7-83E2-A9A96745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0BD-3675-4164-B5D6-3481026E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8E6-79EC-4175-B7B9-4D702173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40EA-B260-48E1-9154-86F97616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C09-8E25-4D2C-B493-89B94846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0D1-D85A-4352-BEC5-9339F091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146-EEBF-4933-9E0C-FF23E0FD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818-EE4E-44EB-9BB1-6F272426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735-F5C6-4401-A7C2-E4CE9785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3B2-AAFA-4DBB-B8C2-40201ABE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393-02B0-4ED5-BB4D-0DB151B1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ADF-9E3B-4CD3-8BAB-D98CFECF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66FAC7-9D75-4BB4-9889-C9CC9C9F839B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0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Mixed Effects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trol.lme &lt;- lme(Y ~ SG + VP + V10 + EP, data = petrol, random = ~1 | No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mary(petrol.lm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inear mixed-effects model fit by REM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ormula: ~1 | No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Residua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dDev:    1.444741 1.87220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134791 14.554171 21 -0.421514  0.677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19398  0.146938  6  1.493136  0.186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45863  0.520528  6  1.048673  0.33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54243  0.039962  6 -3.859697  0.00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7177  0.005588 21 28.127561  0.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2DD-A3CA-4A2E-905A-52D15DF6279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mparison with previous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nd(summary.lm(petrol.lm3)$coef,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stimate Std. Error  t value Pr(&gt;|t|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82077   10.12315 -0.67378  0.5061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2725    0.09994  2.27390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0311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5373    0.36975  1.49756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1458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4954    0.02923 -5.11597  0.0000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465    0.00645 23.99221  0.0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134795  14.55411 21  -0.42152  0.677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0.219398   0.14694  6   1.49314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186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0.545863   0.52053  6   1.04868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33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-0.154243   0.03996  6  -3.85971  0.00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0.157177   0.00559 21  28.12753  &lt;.000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645000"/>
            <a:ext cx="777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029-1A55-4A4B-BC64-ED5554CCC7C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hrinkag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dat &lt;- with(petrol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xpand.grid(No = levels(No), SG = mean(SG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VP = mean(VP), V10=mean(V10), EP = mean(EP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ixM &lt;- predict(petrol.lm2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ranM &lt;- predict(petrol.lme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conM &lt;- predict(petrol.lm3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X &lt;- rbind(cbind(1,fixM), cbind(2,ranM), cbind(3,conM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lot(X, axes = F, ann = 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gments(1,fixM, 2,ran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gments(2,ranM, 3,con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AC2-959C-4776-A5A3-3A12389091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77880" y="434880"/>
            <a:ext cx="5989680" cy="5989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02640" y="7333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xed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21320" y="2317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+ 3 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43280" y="3573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5B9-D6D9-4542-82E6-C191AE29E51F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random slopes as wel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eviation from parallel regressions was not significant, but still somewhat suspiciou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might consider making both the intercept and the slope have a random componen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etrol.lme2 &lt;- lme(Y ~ SG + VP + V10 + EP, data = petrol,random = ~ 1 + EP | No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mmary(petrol.lme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7A3-AFB0-414F-AF91-E51D771B5E2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56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ormula: ~1 + EP | No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ructure: General positive-definite, Log-Cholesky parametrizatio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dDev      Corr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1.725640232 (Intr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0.003283688 -0.53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esidual    1.854119617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229186 14.632337 21 -0.425714  0.674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19109  0.147941  6  1.481050  0.189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48118  0.523123  6  1.047781  0.335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53940  0.040213  6 -3.828130  0.008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7248  0.005666 21 27.753481  0.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4D8-854A-494F-9FD1-31EB3B99D4C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petroleum data of N H Prat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10 samples of crude oi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artitioned and tested for yield at different “end points”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amples themselves are classified by specific gravity (SG), vapour pressure (VP) and volatility as measured by the ASTM 10% point (V10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e the rate of rise in yield with end poin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we explain differences between samples in terms of external measure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809-66CC-4AF5-AF78-ABF352D9A72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petrol data displaye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yplot(Y ~ EP | No, petrol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.lmline(x, y, col = 3, lty = 4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s.table = T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spect = "xy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lab = "End point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ab = "Yield (%)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FBD-2249-4275-A1E1-4167A5BF5C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476280"/>
          <a:ext cx="7848720" cy="60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76280"/>
                    <a:ext cx="784872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1D3-26D8-463F-B429-74415037A99E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the slopes be regarded as parallel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1 &lt;- aov(Y ~ No/EP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2 &lt;- aov(Y ~ No + EP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nova(petrol.lm2, petrol.lm1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ponse: 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Resid. Df      RSS    Test Df Sum of Sq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 No + EP        21 74.1319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2 No/EP          12 30.32915 1 vs. 2  9  43.80284 1.925665 0.143904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e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DD5-6001-4E1C-AA5D-3DEC8BBC35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we explain differences in intercept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3 &lt;- aov(Y ~ . - No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nova(petrol.lm3, petrol.lm2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ponse: 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Resid. Df     RSS    Test Df Sum of Sq  F Value 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 SG + VP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10 + EP       27 134.804                      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2 No + EP        21  74.132 1 vs. 2  6  60.67197 2.864511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0336811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oks doubtful, but how close is it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A24-1220-47C4-981F-82F6BD54A8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oking at all three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 &lt;- update(petrol.lm2, .~.-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0 &lt;- predict(tmp, type="terms")[, "No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0 &lt;- coef(tmp)["EP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 &lt;- cbind(1, petrol$SG, petrol$VP, petrol$V10) %*%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ef(petrol.lm3)[1:4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 &lt;- coef(petrol.lm3)["EP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lette(c("red", "blue", "orange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Y ~ EP | No, petrol, 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lmline(x, y, col = 3, lty = 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abline(a0[subscripts][1], b0, col = 4, lty = 4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abline(a[subscripts][1], b, col = 5, lty = 5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aspect = "xy", xlab = "End point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ylab = "Yield (%)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571-E401-4358-A8C4-5CA27C4CA74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EF7-A55F-49D4-85A9-5C05194F652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a random ter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external (sample-specific) variables explain much of the differences between the intercepts, but there is still significant variation between samples unexplain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ne natural way to model this is to assume that, in addition to the systematic variation between intercepts explained by regression on the external variables, there is a random term as wel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ssume this term to be normal with zero mean.  Its variance measures the extent of this additional vari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9BE-7C51-472D-8E08-9E503C30E5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0:35Z</dcterms:modified>
  <cp:revision>13</cp:revision>
  <dc:subject/>
  <dc:title>S-PLUS, An Introduction to the System</dc:title>
</cp:coreProperties>
</file>